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2.png" ContentType="image/png"/>
  <Override PartName="/ppt/media/image11.png" ContentType="image/png"/>
  <Override PartName="/ppt/media/image34.wmf" ContentType="image/x-wmf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C65A-AA27-4023-BA5C-A610B73679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9F8-C261-4BAD-BFE6-5052C9580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25C8-FB4F-4EFC-AEE9-05B7A201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392220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1BC3-A1D9-49EE-9DDF-ACCF9760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8804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B115-4A5E-4D04-A48C-43E39A8D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936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292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936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4292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FC31-89CE-406C-821F-48FE6593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6A2F-7D33-43D5-BF6B-A1121FD3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5A36-CA89-4C41-8F3C-E33D7AC6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DB15-3FE1-4FA3-95E9-C16EB28A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89F4-60B1-459B-94E0-C502892E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7275-FDD4-4988-980B-240A3326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4572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5CAB-AC85-41D2-90A8-84DE7AAF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889D-BC21-4E6F-A6AC-B32CD44E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859E8-15FE-47EE-B086-8522464A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8804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6FDD-37B2-46E8-B44F-61993879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BAFF-F3E1-42E1-B8D6-11C8E9F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76160" y="392220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9D3C-E98C-422F-A3D1-2FE0F9B5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8804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EBC6-A5BC-47F4-B8C8-4249D691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5936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2920" y="129528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7616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5936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2920" y="3922200"/>
            <a:ext cx="226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D70B-E8FF-4884-9125-5C3BF0BB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B2C9-524E-446B-9A8D-762BBDD4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8052-D3AF-47CC-B007-48B556EA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38A2-03D8-450A-AED7-1EA57EE3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45720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8A7B6-30A8-4594-B635-FC59E65D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5EBA-FAF4-40B3-9F4B-C3107DA9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88040" y="392220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861B-2414-421B-A219-BDFE7AB2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41040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88040" y="1295280"/>
            <a:ext cx="3439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3922200"/>
            <a:ext cx="704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FD6B-FD76-47CD-A0A4-D52398FD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2"/>
          <p:cNvGraphicFramePr/>
          <p:nvPr/>
        </p:nvGraphicFramePr>
        <p:xfrm>
          <a:off x="0" y="0"/>
          <a:ext cx="18288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82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4c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E1DF-000B-457A-92BE-EE1B338C72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504-A9C1-4E47-BAC5-5699987852A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228600" y="15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4c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805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0596-C632-4D72-A22B-C7A2BB40545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638680" y="6400440"/>
            <a:ext cx="3135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a0c6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0c6f8"/>
                </a:solidFill>
                <a:latin typeface="Times New Roman"/>
              </a:rPr>
              <a:t>&lt;footer&gt;</a:t>
            </a:r>
            <a:r>
              <a:rPr b="0" i="1" lang="en-US" sz="1200" spc="-1" strike="noStrike">
                <a:solidFill>
                  <a:srgbClr val="a0c6f8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3505320" y="640044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E5DB-4D9A-4516-AF3C-8324C4278A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76680" y="1077840"/>
            <a:ext cx="594360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Quantum Dot </a:t>
            </a:r>
            <a:br>
              <a:rPr sz="4000"/>
            </a:br>
            <a:r>
              <a:rPr b="0" i="1" lang="de-DE" sz="4000" spc="-1" strike="noStrike">
                <a:solidFill>
                  <a:srgbClr val="000000"/>
                </a:solidFill>
                <a:latin typeface="Arial"/>
              </a:rPr>
              <a:t>Infrared Photodetectors</a:t>
            </a:r>
            <a:endParaRPr b="1" lang="en-US" sz="4000" spc="-1" strike="noStrike">
              <a:solidFill>
                <a:srgbClr val="8b1111"/>
              </a:solidFill>
              <a:latin typeface="Arial"/>
            </a:endParaRPr>
          </a:p>
        </p:txBody>
      </p:sp>
      <p:grpSp>
        <p:nvGrpSpPr>
          <p:cNvPr id="93" name="Group 11"/>
          <p:cNvGrpSpPr/>
          <p:nvPr/>
        </p:nvGrpSpPr>
        <p:grpSpPr>
          <a:xfrm>
            <a:off x="2971800" y="2065320"/>
            <a:ext cx="2936880" cy="297000"/>
            <a:chOff x="2971800" y="2065320"/>
            <a:chExt cx="2936880" cy="297000"/>
          </a:xfrm>
        </p:grpSpPr>
        <p:grpSp>
          <p:nvGrpSpPr>
            <p:cNvPr id="94" name="Group 9"/>
            <p:cNvGrpSpPr/>
            <p:nvPr/>
          </p:nvGrpSpPr>
          <p:grpSpPr>
            <a:xfrm>
              <a:off x="2971800" y="2227320"/>
              <a:ext cx="2936880" cy="135000"/>
              <a:chOff x="2971800" y="2227320"/>
              <a:chExt cx="2936880" cy="135000"/>
            </a:xfrm>
          </p:grpSpPr>
          <p:sp>
            <p:nvSpPr>
              <p:cNvPr id="95" name="Line 7"/>
              <p:cNvSpPr/>
              <p:nvPr/>
            </p:nvSpPr>
            <p:spPr>
              <a:xfrm>
                <a:off x="2971800" y="2303640"/>
                <a:ext cx="2819520" cy="0"/>
              </a:xfrm>
              <a:prstGeom prst="line">
                <a:avLst/>
              </a:prstGeom>
              <a:ln w="9360">
                <a:solidFill>
                  <a:srgbClr val="8b1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8"/>
              <p:cNvSpPr/>
              <p:nvPr/>
            </p:nvSpPr>
            <p:spPr>
              <a:xfrm>
                <a:off x="5791320" y="2227320"/>
                <a:ext cx="117360" cy="135000"/>
              </a:xfrm>
              <a:prstGeom prst="ellipse">
                <a:avLst/>
              </a:prstGeom>
              <a:gradFill rotWithShape="0">
                <a:gsLst>
                  <a:gs pos="0">
                    <a:srgbClr val="a0c6f8"/>
                  </a:gs>
                  <a:gs pos="100000">
                    <a:srgbClr val="4a5c7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Line 10"/>
            <p:cNvSpPr/>
            <p:nvPr/>
          </p:nvSpPr>
          <p:spPr>
            <a:xfrm>
              <a:off x="2971800" y="2065320"/>
              <a:ext cx="0" cy="22860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6019560" y="761760"/>
            <a:ext cx="2587680" cy="290520"/>
            <a:chOff x="6019560" y="761760"/>
            <a:chExt cx="2587680" cy="290520"/>
          </a:xfrm>
        </p:grpSpPr>
        <p:sp>
          <p:nvSpPr>
            <p:cNvPr id="99" name="Line 14"/>
            <p:cNvSpPr/>
            <p:nvPr/>
          </p:nvSpPr>
          <p:spPr>
            <a:xfrm flipH="1">
              <a:off x="6137280" y="822600"/>
              <a:ext cx="2469960" cy="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 rot="10800000">
              <a:off x="6019560" y="761760"/>
              <a:ext cx="117720" cy="135000"/>
            </a:xfrm>
            <a:prstGeom prst="ellipse">
              <a:avLst/>
            </a:prstGeom>
            <a:gradFill rotWithShape="0">
              <a:gsLst>
                <a:gs pos="0">
                  <a:srgbClr val="a0c6f8"/>
                </a:gs>
                <a:gs pos="100000">
                  <a:srgbClr val="4a5c7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V="1">
              <a:off x="8602920" y="823680"/>
              <a:ext cx="0" cy="228600"/>
            </a:xfrm>
            <a:prstGeom prst="line">
              <a:avLst/>
            </a:prstGeom>
            <a:ln w="9360">
              <a:solidFill>
                <a:srgbClr val="8b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9"/>
          <p:cNvSpPr/>
          <p:nvPr/>
        </p:nvSpPr>
        <p:spPr>
          <a:xfrm>
            <a:off x="4343400" y="3124080"/>
            <a:ext cx="48006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ackeem Owusu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ushobhan Josh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Seal of the University"/>
          <p:cNvPicPr/>
          <p:nvPr/>
        </p:nvPicPr>
        <p:blipFill>
          <a:blip r:embed="rId2"/>
          <a:stretch/>
        </p:blipFill>
        <p:spPr>
          <a:xfrm>
            <a:off x="228600" y="228600"/>
            <a:ext cx="103824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847B-17F6-431A-85CE-1DC2372A2C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(QDs)</a:t>
            </a:r>
            <a:br>
              <a:rPr sz="3200"/>
            </a:b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76520" y="1066320"/>
            <a:ext cx="7162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/C nanostructures that confines the motion of conduction band electrons, valence band holes, or excitons in all three spatial dir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electron energy levels are discrete in QDs, the addition or subtraction of a few atoms to the QD has the effect of altering the boundaries of the bandg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the size of the bandgap is controlled simply by adjusting the size of the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geometry of the surface of the QD also changes the bandgap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4" descr="image003.gif"/>
          <p:cNvPicPr/>
          <p:nvPr/>
        </p:nvPicPr>
        <p:blipFill>
          <a:blip r:embed="rId1"/>
          <a:stretch/>
        </p:blipFill>
        <p:spPr>
          <a:xfrm>
            <a:off x="2133720" y="4648320"/>
            <a:ext cx="6019560" cy="198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81D6-B060-4221-A1DE-B25C4520D0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058160" y="2819520"/>
            <a:ext cx="2085840" cy="1466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Fabrication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523880" y="114300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e S/C is grown on another under strain (GaAs/AlGaAs), the strain results in the spontaneous formation of small is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islands are about the right size to act as QDs near room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5638680" y="22860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3"/>
          <a:stretch/>
        </p:blipFill>
        <p:spPr>
          <a:xfrm>
            <a:off x="5181480" y="27432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5638680" y="4495680"/>
            <a:ext cx="3200400" cy="21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61A3-C1FC-4563-AEDE-6F85590813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Growth Technique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76160" y="12952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ly used techniques for the growth of uniform arrays of 3 dimensional Q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8b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lecular Beam Epitaxy (MB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8b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alorganic Chemical Vapor Deposition (MOCV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lattice-matched and lattice-mismatched (heteroepitaxial) systems can be used for the formation of nano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tice-mismatch as a GaAs/InAs heterostructure, as the critical thickness is exceeded, formation of randomly distributed islandstakes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4919-B79D-4390-A1E5-6E93528A23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Molecular Beam Epitaxy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520" y="1295280"/>
            <a:ext cx="3124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pitaxial growth takes place through reactions between the atomic / molecular beams of the source materials and the substrat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ystem  is heated to a certain temperature in an ultrahigh vacuum enviro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es can also be used as potential precursor sources, generally for group V elements in the synthesis of III-V com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34340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6BD8A-68FC-4D25-B5CC-43A84C01B3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Metalorganic Chemical Vapor Deposition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roduce high-quality epitaxial layers with thicknesses as thin as a few atomic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process is based on the pyrolysis of alkyls or metalorganics (of group III elements typically) in an atmosphere of hydrides (of group V elements typic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amounts alkyls and hydride gases are introduced into a reaction chamber in which a S/C substrate is placed on a heated sus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C crystal growth takes place in this hot region due catalytic effect on the decomposition of the gaseous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C557-E14A-4CC9-9250-81D56FFB75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7620120" cy="5867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Schematic Diagram (MOCVD) 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7E5F-6631-4604-8B65-7323FB977F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Growth </a:t>
            </a: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Modes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6160" y="12952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k-van der Merw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mer-We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nski-Krastano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095880" y="533520"/>
            <a:ext cx="248148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172200" y="2133720"/>
            <a:ext cx="2435400" cy="1676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>
            <a:off x="6019920" y="3809880"/>
            <a:ext cx="2590560" cy="18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93FA-5230-4647-B3B0-ECDB6B23A8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7772400" cy="4495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Materials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676160" y="1143000"/>
            <a:ext cx="704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materials of which QDs are composed of belong to periodic groups of II-VI, III-V, or IV-VI mate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A417-6011-4158-8B53-FC5812BA62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Infrared Photodetector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self-assembled QDs (SAQDs)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frared (IR) photodetectors in the near-IR to long-IR wavelength (1- to 20-μm) reg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(InGaAl)/A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952880" y="2514600"/>
            <a:ext cx="388620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1752480" y="2971800"/>
            <a:ext cx="312444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427E-7F72-4900-96F7-2AC1542D51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Infrared Photodetector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Shape of the Qds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ic of (a) a buried pyramidal island and (b) the conduction and valence band edge lineup that defines the confinement potential along the line passing through the island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pering toward the apex symbolizes lower compressive strain toward the ape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3D quantum confined states, arising from the full 3D confinement potential, are indicated along with the interband  and intraband transitions to be tailored for dete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600200" y="3962520"/>
            <a:ext cx="7238880" cy="28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BB6F-062C-4F15-AAAE-2D4BCE0646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b1111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um Dots (Q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um Dot Infrared Photodetectors (QD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iloring of QD Electronic Energy Levels and Wave Functio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DIP Device Characteristic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rk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pons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conductive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0c6f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3F7F-45B1-43CD-A98F-BF1BECF745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Infrared Photodetector 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Energy Band Characteristics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47560" y="12193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ch spatially varying potential, the electrons and holes in certain regions acquire spatially confined wave functions along with discrete energ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on the matching of the dominant optical phonon energies with the range of energy relaxation to the ground state following excitation of an electron to a higher state introduces a so called “phonon bottlene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nhances the excited carrier life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ful for collection of the carriers as photocurrent and for achieving high photoconductive 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248520" y="762120"/>
            <a:ext cx="2895480" cy="2838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5791320" y="3733920"/>
            <a:ext cx="312408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AF19-C5F7-41D9-B323-DB4D0254AB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Quantum Dots Infrared Photodetector</a:t>
            </a:r>
            <a:br>
              <a:rPr sz="2000"/>
            </a:br>
            <a:r>
              <a:rPr b="1" lang="de-DE" sz="2000" spc="-1" strike="noStrike">
                <a:solidFill>
                  <a:srgbClr val="8b1111"/>
                </a:solidFill>
                <a:latin typeface="Arial"/>
              </a:rPr>
              <a:t>Device Structure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47920" y="12952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ing on transport direction,two types of  structures can be used for QD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3760" y="2362320"/>
            <a:ext cx="3390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Transpor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b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aAs barriers are utilized to modulation-dope the quantum dots and to provide a high-mobility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tent Placeholder 3"/>
          <p:cNvSpPr/>
          <p:nvPr/>
        </p:nvSpPr>
        <p:spPr>
          <a:xfrm>
            <a:off x="1828800" y="2362320"/>
            <a:ext cx="339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Transport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600200" y="396252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20040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528C-C3ED-4E02-A7C1-87B756150A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Tailoring of QD Electronic Energy Levels and Wave Function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E168-D2CB-43AA-BCB0-8DF020E9B9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Tailoring of QD Electronic Energy Levels and Wave Function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676160" y="1294920"/>
            <a:ext cx="704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Typically, NIR PC peaks are much less resolved at LHe temperatures due to decreased probability of carrier extraction and thus suppressed photocurren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Due to the integrative nature of photocurrent detection, as opposed to the size subensemble selection in PLE, one resolves only the strongest transitions in the presence of inhomogeneous</a:t>
            </a:r>
            <a:r>
              <a:rPr b="0" lang="en-US" sz="28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 broaden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the intraband transitions g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much richer information on the electronic struc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983F8-96EF-44AF-B803-84B8B04044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Tailoring of QD Electronic Energy Levels and Wave Function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76160" y="1295280"/>
            <a:ext cx="7048440" cy="5029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7238880" cy="51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7EF4-0174-4D8D-A2A5-6EA4F86F820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Tailoring of QD Electronic Energy Levels and Wave Function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According to the calculated energy levels in pyramidal InAs/GaAs QDs, one would expect a much richer PC level structure than the two detected peak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Also some allowed transitions might not be observed due to small oscillator strengths or due to the shallow depth of the higher energy levels invol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The inhomogeneity caused by the QD size fluctuation causes broadening of transition energies and thus compromises resol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647E-F596-49FA-9597-5BFC1329E7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Tailoring of QD Electronic Energy Levels and Wave Function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76160" y="1295280"/>
            <a:ext cx="7048440" cy="5029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1600200" y="1219320"/>
            <a:ext cx="7238880" cy="54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F688-9329-4F26-AF85-EBB07AA263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Tailoring of QD Electronic Energy Levels and Wave Function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76160" y="1295280"/>
            <a:ext cx="7048440" cy="5029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769608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8BA1-B520-44FE-8F89-23D59001DD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Tailoring of QD Electronic Energy Levels and Wave Function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76160" y="1295280"/>
            <a:ext cx="7048440" cy="5029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769608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5434-B060-4F41-BFDC-09A463B3EE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StoneSans-Semibold"/>
                <a:ea typeface="Times New Roman"/>
              </a:rPr>
              <a:t>AlGaAs Capped Large InAs MQD QDIP Structures</a:t>
            </a:r>
            <a:r>
              <a:rPr b="1" lang="en-GB" sz="3200" spc="-1" strike="noStrike">
                <a:solidFill>
                  <a:srgbClr val="8b111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The real trade-off is between the number of QD layers and the total strain buildup that increases structural defect dens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Operationally, the considerations are between the size of the islands, the lattice mismatch with the capping layer, and the thickness of the capping lay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out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now to exploit the buried island induced stress fields on the cap layer surface to achieve considerable </a:t>
            </a:r>
            <a:r>
              <a:rPr b="0" i="1" lang="en-US" sz="2400" spc="-1" strike="noStrike">
                <a:solidFill>
                  <a:srgbClr val="000000"/>
                </a:solidFill>
                <a:latin typeface="Sabon-Italic"/>
                <a:ea typeface="Times New Roman"/>
              </a:rPr>
              <a:t>vertical self-organization </a:t>
            </a: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(VSO) of the SAQ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77F1B-E5B2-4AA0-BC77-86B654FD3C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Introduction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Shortcomings of Traditional Semiconductors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(bulk) semiconductors (S/Cs) lack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optoelectronic qualities are costly to ad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bandgap cannot be easily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emission frequencies cannot be easily manipulated by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A144-7A03-4A4E-85F7-C9A3492227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773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StoneSans-Semibold"/>
                <a:ea typeface="Times New Roman"/>
              </a:rPr>
              <a:t>AlGaAs Capped Large InAs MQD QDIP Structures</a:t>
            </a:r>
            <a:r>
              <a:rPr b="1" lang="en-GB" sz="3200" spc="-1" strike="noStrike">
                <a:solidFill>
                  <a:srgbClr val="8b111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723888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9BFE-3B47-46C7-8EAE-CD54396C95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Probe for QDIP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76160" y="1295280"/>
            <a:ext cx="7048440" cy="5029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7444-5E80-463C-BF83-077D4A8608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Probe for QDIP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1676520" y="1336680"/>
            <a:ext cx="7315200" cy="514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40B1-0DC8-40BF-B33F-3CB7FC1F70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Probe for QDIPs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76160" y="1295280"/>
            <a:ext cx="7048440" cy="5029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781A-3B1F-4DA1-91B5-0C07209D19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StoneSans-Semibold"/>
                <a:ea typeface="Times New Roman"/>
              </a:rPr>
              <a:t>In</a:t>
            </a:r>
            <a:r>
              <a:rPr b="1" i="1" lang="en-US" sz="3200" spc="-1" strike="noStrike">
                <a:solidFill>
                  <a:srgbClr val="8b1111"/>
                </a:solidFill>
                <a:latin typeface="StoneSans-SemiboldItalic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8b1111"/>
                </a:solidFill>
                <a:latin typeface="StoneSans-Semibold"/>
                <a:ea typeface="Times New Roman"/>
              </a:rPr>
              <a:t>Ga1-</a:t>
            </a:r>
            <a:r>
              <a:rPr b="1" i="1" lang="en-US" sz="3200" spc="-1" strike="noStrike">
                <a:solidFill>
                  <a:srgbClr val="8b1111"/>
                </a:solidFill>
                <a:latin typeface="StoneSans-SemiboldItalic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8b1111"/>
                </a:solidFill>
                <a:latin typeface="StoneSans-Semibold"/>
                <a:ea typeface="Times New Roman"/>
              </a:rPr>
              <a:t>As Capped Small and Large InAs MQD-Based QDIP Structures</a:t>
            </a:r>
            <a:r>
              <a:rPr b="1" lang="en-GB" sz="3200" spc="-1" strike="noStrike">
                <a:solidFill>
                  <a:srgbClr val="8b111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InAs/GaAs/AlGaAs QDIP structures allow considerable re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in the dark current due to the AlGaAs blocking layers, the photoresponse is restricted to the 5- to 7-</a:t>
            </a:r>
            <a:r>
              <a:rPr b="0" lang="en-US" sz="2400" spc="-1" strike="noStrike">
                <a:solidFill>
                  <a:srgbClr val="000000"/>
                </a:solidFill>
                <a:latin typeface="SymbolProportionalBT-Regular"/>
                <a:ea typeface="Times New Roman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m reg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Manipulating the QD quantum confinement potential via change in the barrier GaAs layer to alloy InGa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F617-EEF4-434C-8B8F-5C3355EC5A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Sabon-Roman"/>
                <a:ea typeface="Times New Roman"/>
              </a:rPr>
              <a:t>Tailoring the Electronic Structure of the QDs 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The chemical effect of In lowering the band edges and thus the band discontinuities that define the confinement potential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The accompanying reduction in the lattice mismatch between the InAs island material and the InGaAs capping layer lowering the strain and thus the band edge discontinu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FDE57-CDDF-42D7-8CE1-BAF1BCE38E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StoneSans-Semibold"/>
                <a:ea typeface="Times New Roman"/>
              </a:rPr>
              <a:t>QDIP Device Characteristics</a:t>
            </a:r>
            <a:r>
              <a:rPr b="1" lang="en-GB" sz="3200" spc="-1" strike="noStrike">
                <a:solidFill>
                  <a:srgbClr val="8b111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The detectivity, </a:t>
            </a:r>
            <a:r>
              <a:rPr b="0" i="1" lang="en-US" sz="2400" spc="-1" strike="noStrike">
                <a:solidFill>
                  <a:srgbClr val="000000"/>
                </a:solidFill>
                <a:latin typeface="Sabon-Italic"/>
                <a:ea typeface="Times New Roma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, of these devices was three to four orders of magnitude lower than QWIPs with similar structu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QD layers have less than unity fill factors The net result is lower responsivity of the QDIPs</a:t>
            </a:r>
            <a:r>
              <a:rPr b="0" lang="en-GB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Another limiting factor for the QDIPs is that they have exhibited higher dark current that is comparable to or even higher than that of QWIPs</a:t>
            </a:r>
            <a:r>
              <a:rPr b="0" lang="en-GB" sz="2400" spc="-1" strike="noStrike">
                <a:solidFill>
                  <a:srgbClr val="000000"/>
                </a:solidFill>
                <a:latin typeface="Sabon-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5794-B749-4BB4-8C6B-45C4D1E53D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Times New Roman"/>
              </a:rPr>
              <a:t>Applications</a:t>
            </a:r>
            <a:r>
              <a:rPr b="1" lang="en-GB" sz="3200" spc="-1" strike="noStrike">
                <a:solidFill>
                  <a:srgbClr val="8b1111"/>
                </a:solidFill>
                <a:latin typeface="Arial"/>
              </a:rPr>
              <a:t> of QDIP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velopment of quantum dot infrared photodetectors  technology that may provide new imaging techniques with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medical and biological imag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mental and chemical monitor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ght vision and infrared imaging from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9C31-F7DA-4A06-B3D4-29B740795C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  <a:ea typeface="Times New Roman"/>
              </a:rPr>
              <a:t>Imaging Systems</a:t>
            </a:r>
            <a:r>
              <a:rPr b="1" lang="en-GB" sz="3200" spc="-1" strike="noStrike">
                <a:solidFill>
                  <a:srgbClr val="8b111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tional infrared photon detector technology for imaging applications typically requires that the detector be cooled to very low temperatu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ntum Devices  are one step closer to achieving the goal of developing high-performance imaging techniques that can operate at higher temperat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892E-BB3A-4F47-8FA2-F90C7C6710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b1111"/>
                </a:solidFill>
                <a:latin typeface="Arial"/>
              </a:rPr>
              <a:t>References:</a:t>
            </a:r>
            <a:endParaRPr b="1" lang="en-US" sz="32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676520" y="1295280"/>
            <a:ext cx="7238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uctor Nanostructures for Optoelectronic Applications”, Todd Steiner,  2004 ARTECH HOUSE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NOSTRUCTURES &amp; NANOMATERIALS, Synthesis,  properties &amp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”, Guozhong Cao, 2004 by Imperial College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dot infrared photodetector”, H.C. LIU, OPTO-ELECTRONICS REVIEW 11(1), 1–5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 analysis of quantum dot infrared photodetectors”, Mashade et. al, INSTITUTE OF PHYSICS PUBLISHING SEMICONDUCTOR SCIENCE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. Sci. Technol. 18 (2003) 891–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ciencedaily.com/releases/2007/05/070517120153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videnttech.com/quantum-dots-explaine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mmp.ucl.ac.uk/~mjg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Quantum_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14EB5-517A-4FB0-AE0C-94B9BD0306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Introduction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Shortcomings of Traditional Semiconductors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47560" y="1676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’s law: “that the density of transistors on a silicon chip will double every three yea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s the ability to continue miniaturizing the transistors i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00240" y="3886200"/>
            <a:ext cx="404172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surface in form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a0c6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ickness of the oxide layer (already only a few nanomet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a0c6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ize of the gate of the transistor (if in nanoscale, there could be leakage across it due to tunneling of electr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a0c6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on the lithography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800600" cy="251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6360-A80D-422E-97C6-C27B9AEC0C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123720" y="1950120"/>
            <a:ext cx="4419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213" name="WordArt 3"/>
          <p:cNvSpPr txBox="1"/>
          <p:nvPr/>
        </p:nvSpPr>
        <p:spPr>
          <a:xfrm>
            <a:off x="3124080" y="1219320"/>
            <a:ext cx="4953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067b8"/>
                    </a:gs>
                    <a:gs pos="100000">
                      <a:srgbClr val="163055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067b8"/>
                  </a:gs>
                  <a:gs pos="100000">
                    <a:srgbClr val="163055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pic>
        <p:nvPicPr>
          <p:cNvPr id="214" name="Picture 8" descr="Seal of the University"/>
          <p:cNvPicPr/>
          <p:nvPr/>
        </p:nvPicPr>
        <p:blipFill>
          <a:blip r:embed="rId2"/>
          <a:stretch/>
        </p:blipFill>
        <p:spPr>
          <a:xfrm>
            <a:off x="228600" y="228600"/>
            <a:ext cx="1038240" cy="121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5755-8FA8-4E7D-8902-69D693BEC2C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Introduction</a:t>
            </a:r>
            <a:br>
              <a:rPr sz="3200"/>
            </a:br>
            <a:r>
              <a:rPr b="1" lang="de-DE" sz="2400" spc="-1" strike="noStrike">
                <a:solidFill>
                  <a:srgbClr val="8b1111"/>
                </a:solidFill>
                <a:latin typeface="Arial"/>
              </a:rPr>
              <a:t>Nanostructure Based Semiconductors (S/C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s that use the quantum mechanical eff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he shrinking of devices to sizes of only a few nan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aralleled in versatility and flexible i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us to make semiconductors with tunable band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7960-BFD5-4092-BC3C-38DF39F16D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Introduction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Quantum Confinements</a:t>
            </a: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s in S/C nanostructures have a range of energies although the concepts of energy levels, bandgap still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iton Bohr Radius (avg. gap between electron and hole), is different for each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nanostructure (eg. QDs), the dimension of the crystal is smaller enough to disallow Exciton Bohr radius to extend to full f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on energy levels can no longer be treated as continuous but as discrete, meaning that there is a small and finite separation between energy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ituation of discrete energy levels is called quantum confinement, where, the semiconductor material ceases to resemble bul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23F7-B927-4D36-9D55-01C47053A5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Introduction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Quantum Confinements</a:t>
            </a:r>
            <a:br>
              <a:rPr sz="2000"/>
            </a:b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9320" y="990360"/>
            <a:ext cx="3962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7760" indent="-173160">
              <a:spcBef>
                <a:spcPts val="499"/>
              </a:spcBef>
              <a:buClr>
                <a:srgbClr val="a0c6f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3160">
              <a:spcBef>
                <a:spcPts val="4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Dimensional – Quantum Well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confines the motion of electrons or holes or excitons in one dimension and allow free propagation in two dim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3160">
              <a:spcBef>
                <a:spcPts val="400"/>
              </a:spcBef>
              <a:buClr>
                <a:srgbClr val="a0c6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3160">
              <a:spcBef>
                <a:spcPts val="4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mensional – Quantum Wire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confines the motion of electrons or holes or excitons in two spatial dimensions and allow free propagation in the thi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3160">
              <a:spcBef>
                <a:spcPts val="400"/>
              </a:spcBef>
              <a:buClr>
                <a:srgbClr val="a0c6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73160">
              <a:spcBef>
                <a:spcPts val="400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Dimensional – Quantum Do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ll three spatial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6" descr="QuantumWell.gif"/>
          <p:cNvPicPr/>
          <p:nvPr/>
        </p:nvPicPr>
        <p:blipFill>
          <a:blip r:embed="rId1"/>
          <a:stretch/>
        </p:blipFill>
        <p:spPr>
          <a:xfrm>
            <a:off x="5334120" y="304920"/>
            <a:ext cx="364788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Content Placeholder 6" descr="QuantumWell.gif"/>
          <p:cNvPicPr/>
          <p:nvPr/>
        </p:nvPicPr>
        <p:blipFill>
          <a:blip r:embed="rId2"/>
          <a:stretch/>
        </p:blipFill>
        <p:spPr>
          <a:xfrm>
            <a:off x="5257800" y="2666880"/>
            <a:ext cx="369576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6" descr="QuantumWell.gif"/>
          <p:cNvPicPr/>
          <p:nvPr/>
        </p:nvPicPr>
        <p:blipFill>
          <a:blip r:embed="rId3"/>
          <a:stretch/>
        </p:blipFill>
        <p:spPr>
          <a:xfrm>
            <a:off x="5334120" y="4724280"/>
            <a:ext cx="365760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D0CB-D0DB-4ABF-AE65-F36AB14828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Introduction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Quantum Confinements’ Causes</a:t>
            </a:r>
            <a:br>
              <a:rPr sz="2000"/>
            </a:b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finement can be due to electrostatic potentials (generated by external electrodes, doping, strain, impur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f an interface between different semiconductor materials (e.g. in quantum wells; a very thin layer of a semiconductor sandwiched between two layers of another semiconductor with wider energy g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f the semiconductor surface, or a combination of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BFC8-A508-4481-A5C1-1F0AF47A11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8b1111"/>
                </a:solidFill>
                <a:latin typeface="Arial"/>
              </a:rPr>
              <a:t>Introduction</a:t>
            </a:r>
            <a:br>
              <a:rPr sz="3200"/>
            </a:br>
            <a:r>
              <a:rPr b="1" lang="en-US" sz="2000" spc="-1" strike="noStrike">
                <a:solidFill>
                  <a:srgbClr val="8b1111"/>
                </a:solidFill>
                <a:latin typeface="Arial"/>
              </a:rPr>
              <a:t>Optoelectronic Devices Based on S/C Nanostructures</a:t>
            </a:r>
            <a:br>
              <a:rPr sz="2000"/>
            </a:br>
            <a:endParaRPr b="1" lang="en-US" sz="2000" spc="-1" strike="noStrike">
              <a:solidFill>
                <a:srgbClr val="8b1111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76160" y="1295280"/>
            <a:ext cx="704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Well Lasers (197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18df1"/>
                </a:solidFill>
                <a:latin typeface="Arial"/>
              </a:rPr>
              <a:t>Quantum Dot Infrared Detectors (QDI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Dot La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 Injection QD La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ssibly in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Dot Sola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orescence Spectroscopy (detecting tum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D Light  Emitting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D Disp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D Transistor and hence QD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b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1ABE-2FC6-4208-855B-869A39FABB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Sung Ha, Park</dc:creator>
  <dc:description/>
  <dc:language>en-US</dc:language>
  <cp:lastModifiedBy>hf</cp:lastModifiedBy>
  <dcterms:modified xsi:type="dcterms:W3CDTF">2008-01-30T10:14:56Z</dcterms:modified>
  <cp:revision>148</cp:revision>
  <dc:subject/>
  <dc:title>Slide 1</dc:title>
</cp:coreProperties>
</file>