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23.png" ContentType="image/png"/>
  <Override PartName="/ppt/media/image22.wmf" ContentType="image/x-wmf"/>
  <Override PartName="/ppt/media/image5.wmf" ContentType="image/x-wmf"/>
  <Override PartName="/ppt/media/image21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18.png" ContentType="image/png"/>
  <Override PartName="/ppt/media/image17.wmf" ContentType="image/x-wmf"/>
  <Override PartName="/ppt/media/image24.jpeg" ContentType="image/jpeg"/>
  <Override PartName="/ppt/media/image15.png" ContentType="image/png"/>
  <Override PartName="/ppt/media/image1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4C94-91B5-4BA3-9AF3-C2C91BE3A994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1920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Hermann Staudinger developed the concept of macromolecul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1935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Wallace Carother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DuPon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 invented nyl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1950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Karl Ziegler and Giulio Natt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polymerization catalyst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1953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Paul Flor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PT" sz="900" spc="-1" strike="noStrike">
                <a:solidFill>
                  <a:srgbClr val="000000"/>
                </a:solidFill>
                <a:latin typeface="Arial"/>
              </a:rPr>
              <a:t> published his book, </a:t>
            </a:r>
            <a:r>
              <a:rPr b="0" i="1" lang="pt-PT" sz="900" spc="-1" strike="noStrike">
                <a:solidFill>
                  <a:srgbClr val="000000"/>
                </a:solidFill>
                <a:latin typeface="Arial"/>
              </a:rPr>
              <a:t>Principles of Polymer Chemistr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ergy difference between the highest occupied state in the π-band and the lowest unoccupied state in the π</a:t>
            </a:r>
            <a:r>
              <a:rPr b="0" lang="pt-PT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band is the π–π</a:t>
            </a:r>
            <a:r>
              <a:rPr b="0" lang="pt-PT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energy gap,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PT" sz="2400" spc="-1" strike="noStrike" baseline="-30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ce there are no partially filled bands conjugated polymers are typically semiconductors. Because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PT" sz="2400" spc="-1" strike="noStrike" baseline="-30000">
                <a:solidFill>
                  <a:srgbClr val="000000"/>
                </a:solidFill>
                <a:latin typeface="Arial"/>
              </a:rPr>
              <a:t>g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depends upon the molecular structure of the repeat unit, synthetic chemists are provided with the opportunity and the challenge to control the energy gap by design at the molecular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8F50-14BD-4695-9038-E9483F2DB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35562-2AE5-4886-805E-F4A0309B5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4270-FCF0-4E5F-B9AA-43D1EEC8B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F73D5-41BD-4A8D-93AC-04329D3EC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867280" y="115920"/>
            <a:ext cx="2952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282B-8121-4D33-80DB-FC642B538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B6F3-B6B7-4DE6-9850-99485690B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BDF55-36D1-4DDD-8C25-C747776DA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117A3-6898-4F85-B4AE-BB3EBCEEC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867280" y="115920"/>
            <a:ext cx="295272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845D1-0240-484F-9DE2-DE7CD7FF4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2876-A5D3-4B7D-B99F-25A25D7D5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A4B0-6EE2-4253-8D15-A2DB37FF9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B9BEE-A95B-4244-A75C-A8E3507F6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360" y="6465960"/>
            <a:ext cx="1582560" cy="326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308720" y="4653000"/>
            <a:ext cx="1409760" cy="165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7280" y="115920"/>
            <a:ext cx="295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987280" y="6453000"/>
            <a:ext cx="28954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Claudio, S. Dolli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96000" y="6381360"/>
            <a:ext cx="109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43EB-50DA-4368-A023-9D351CC73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38172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89000"/>
            <a:ext cx="91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322000"/>
            <a:ext cx="77724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4052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563400"/>
            <a:ext cx="2232000" cy="462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236000" y="549360"/>
            <a:ext cx="1409400" cy="1655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.wikipedia.org/wiki/Organische_Elektronik%20Stand%2028.01.2008" TargetMode="External"/><Relationship Id="rId2" Type="http://schemas.openxmlformats.org/officeDocument/2006/relationships/hyperlink" Target="http://de.wikipedia.org/wiki/Organische_Elektronik%20Stand%2028.01.2008" TargetMode="External"/><Relationship Id="rId3" Type="http://schemas.openxmlformats.org/officeDocument/2006/relationships/hyperlink" Target="http://de.wikipedia.org/wiki/Organische_Elektronik%20Stand%2028.01.2008" TargetMode="External"/><Relationship Id="rId4" Type="http://schemas.openxmlformats.org/officeDocument/2006/relationships/hyperlink" Target="http://www.tu-darmstadt.de/fb/ms/fg/em/Org.%20Elektronik%20in%20e-mat.pdf" TargetMode="External"/><Relationship Id="rId5" Type="http://schemas.openxmlformats.org/officeDocument/2006/relationships/hyperlink" Target="http://www2.uni-wuppertal.de/FB9/poly/ofet.html" TargetMode="External"/><Relationship Id="rId6" Type="http://schemas.openxmlformats.org/officeDocument/2006/relationships/hyperlink" Target="http://de.wikipedia.org/wiki/Organische_Leuchtdiode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322000"/>
            <a:ext cx="777240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 Semicondu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621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nia Claudio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bastian Dolli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ructures and conductivity of some doped conjugated poly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1224000"/>
            <a:ext cx="7315200" cy="476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4FF0-CB8E-4378-9599-CE7628F954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95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vity in Poly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4640" y="1828440"/>
            <a:ext cx="3048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ive poly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ong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46040" y="990720"/>
          <a:ext cx="468936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990720"/>
                    <a:ext cx="468936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25BF-EDB6-47AE-92E5-119C753FB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67280" y="108000"/>
            <a:ext cx="2952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60280"/>
            <a:ext cx="4095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D6DA-CF40-4375-A0F4-C4F9099BEA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inciple the whole field of electronic devices can be realized with polymer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field effect transistors (OF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light emitting diodes (O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photo-voltaic cells (OP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5867280" y="115920"/>
            <a:ext cx="295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2590920" cy="2346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67280" y="4581360"/>
            <a:ext cx="3073320" cy="1146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92360" y="5877000"/>
            <a:ext cx="38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devices made of polymer electronics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5,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44680" y="4221000"/>
            <a:ext cx="1079640" cy="126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24280" y="304920"/>
            <a:ext cx="4095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0617-3C87-443B-BD0F-6C4F839E5E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867280" y="115920"/>
            <a:ext cx="295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40464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393920"/>
            <a:ext cx="41036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ET are designed like thin film FE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B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c semiconduc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have organic substrate, insulator, drain and sour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689800" cy="28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AB49-4FA7-4B11-AF8D-34E2B5166F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67280" y="115920"/>
            <a:ext cx="295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75080" y="2174760"/>
            <a:ext cx="1349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87760" y="2174760"/>
            <a:ext cx="168732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08080" y="2174760"/>
            <a:ext cx="6796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174760"/>
            <a:ext cx="12952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y(3-alkylthioph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75080" y="2811600"/>
            <a:ext cx="1349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,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87760" y="2811600"/>
            <a:ext cx="168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08080" y="2811600"/>
            <a:ext cx="679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811600"/>
            <a:ext cx="129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75080" y="1722600"/>
            <a:ext cx="1349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87760" y="1722600"/>
            <a:ext cx="16873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08080" y="1722600"/>
            <a:ext cx="6796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722600"/>
            <a:ext cx="1295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tace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75080" y="1125360"/>
            <a:ext cx="14922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e mobility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Vs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87760" y="1125360"/>
            <a:ext cx="1687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08080" y="1125360"/>
            <a:ext cx="6796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125360"/>
            <a:ext cx="13683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micond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125360"/>
            <a:ext cx="5400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722600"/>
            <a:ext cx="54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174760"/>
            <a:ext cx="54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573360"/>
            <a:ext cx="5400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125360"/>
            <a:ext cx="0" cy="2448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08080" y="11253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87760" y="11253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75080" y="11253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24360" y="1125360"/>
            <a:ext cx="0" cy="2448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811600"/>
            <a:ext cx="540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24120" y="1746360"/>
            <a:ext cx="1600200" cy="399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759040" y="2212920"/>
            <a:ext cx="703440" cy="569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2760840" y="2819520"/>
            <a:ext cx="691920" cy="655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95280" y="3789360"/>
            <a:ext cx="7561440" cy="2268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084720" y="404640"/>
            <a:ext cx="24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1125360"/>
            <a:ext cx="24480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organic materials used for OFETs. The best conducting is Pentace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c.f. table left). The mobility is almost comparable with that of amorphous Si (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 cm²/V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connection with a self-assembled monolayer as gate dielectric, doped silicon as gate and gold source and drai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c.f. picture belo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2A21-1CDD-4D73-A098-2F5AE0AE83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867280" y="115920"/>
            <a:ext cx="295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5229360"/>
            <a:ext cx="367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acteristic of an OFET with single grain pentacene as semiconductor and gold electrodes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emperature T=300K. The channel length is 1µm. We have an on/off ratio of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4720" y="40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787560" cy="388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3887640" cy="19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F44B7-947A-4DD5-9DCB-8F97AFEAC4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867280" y="115920"/>
            <a:ext cx="295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4869000"/>
            <a:ext cx="28908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es are supplied by anode, going through HT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ns come from cath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ns and holes meet in the flourescent layer form an excit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mbination of exciton results in light emission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,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84720" y="404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and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1280" y="1314360"/>
            <a:ext cx="5148360" cy="1900440"/>
            <a:chOff x="71280" y="1314360"/>
            <a:chExt cx="5148360" cy="1900440"/>
          </a:xfrm>
        </p:grpSpPr>
        <p:grpSp>
          <p:nvGrpSpPr>
            <p:cNvPr id="180" name=""/>
            <p:cNvGrpSpPr/>
            <p:nvPr/>
          </p:nvGrpSpPr>
          <p:grpSpPr>
            <a:xfrm>
              <a:off x="898560" y="1314360"/>
              <a:ext cx="2881080" cy="1584360"/>
              <a:chOff x="898560" y="1314360"/>
              <a:chExt cx="2881080" cy="1584360"/>
            </a:xfrm>
          </p:grpSpPr>
          <p:pic>
            <p:nvPicPr>
              <p:cNvPr id="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62000" y="1314360"/>
                <a:ext cx="2717640" cy="158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898560" y="2008080"/>
                <a:ext cx="379440" cy="26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71280" y="217944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ode (IT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27280" y="2755800"/>
              <a:ext cx="1511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le transport layer (HT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00000" y="2840040"/>
              <a:ext cx="151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uorescent 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8360" y="2192400"/>
              <a:ext cx="151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thode (Calcium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6920" y="1747800"/>
              <a:ext cx="129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ssivation (epoxy res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635280" y="3527280"/>
            <a:ext cx="5040360" cy="2711520"/>
            <a:chOff x="3635280" y="3527280"/>
            <a:chExt cx="5040360" cy="2711520"/>
          </a:xfrm>
        </p:grpSpPr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4714920" y="3527280"/>
              <a:ext cx="2475000" cy="24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164360" y="3755880"/>
              <a:ext cx="151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ctron inj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64360" y="4116240"/>
              <a:ext cx="151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ectron 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64360" y="4620960"/>
              <a:ext cx="151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iton gen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64360" y="5124240"/>
              <a:ext cx="151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le trans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64360" y="5484600"/>
              <a:ext cx="151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le inj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0" y="5962320"/>
              <a:ext cx="1511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ght e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5280" y="4606560"/>
              <a:ext cx="1511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iton re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088E-AEC4-4A46-80E4-887DB316AB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67280" y="115920"/>
            <a:ext cx="295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3360" y="4941360"/>
            <a:ext cx="4473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lkyl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C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lkoxy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lkyl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C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lkoxy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lkoxy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H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lkoxy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lkoxy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H anneale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lkoxy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alkoxy;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404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 mod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032360" cy="3516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003640" y="1197000"/>
            <a:ext cx="360072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orescent layer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y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er PPV is easy to manipulate by changing the side chain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FBE7-6A25-43B6-A339-AE8FF34AAC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2575080" cy="1933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867280" y="115920"/>
            <a:ext cx="295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259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+ printability on almost every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+ Flexible 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+ OLEDs emit 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=&gt; higher contrast, energy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+ viewing angle &gt;17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Lif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84720" y="40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292720" y="1682640"/>
            <a:ext cx="1719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868400" cy="574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3995640" y="3770280"/>
            <a:ext cx="4060800" cy="21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153FA-1173-4B04-A69D-1A7B9AD497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91320" y="304920"/>
            <a:ext cx="25905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7AC4-9C22-4FA4-AE14-E148DCB650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940000" y="115920"/>
            <a:ext cx="1871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kipedia, (28.01.2008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e.wikipedia.org/wiki/Organische_Elektronik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sche Universität Darmstadt, Poster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tu-darmstadt.de/fb/ms/fg/em/Org.%20Elektronik%20in%20e-mat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 Wuppertal, (28.01.200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2.uni-wuppertal.de/FB9/poly/ofe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.Halik, H.Klauk, U.Zschieschang: “Low-voltage organic transistors with an amorphous molecular gate dielectric”, Nature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 Bock, Frauenhofer Institutes, “Polymerelectronics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cherfGroup, “Halbleitende Polymere und 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.Minari e.a., “Temperature and electric-field dependence of the mobility of a single-grain pentacene field-effect transistor, J. Appl. Phys.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kipedia, (28.01.2008)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de.wikipedia.org/wiki/Organische_Leuchtdi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5BAC-0EE9-4143-92AE-E2680D964E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7280" y="256680"/>
            <a:ext cx="29527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95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tauding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bel Prize in Chemist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for his discoveries in the field of macromolecular chemistry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96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Ziegler and Nat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Nobel Prize in Chemist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“for their discoveries in the field of the chemistry and technology of high polymer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97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lo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Nobel Prize in Chemist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“for his fundamental achievements, both theoretical and experimental, in the physical chemistry of macromolecul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3352680"/>
            <a:ext cx="45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aturated Poly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1911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pt-PT" sz="4000" spc="-1" strike="noStrike">
                <a:solidFill>
                  <a:srgbClr val="000099"/>
                </a:solidFill>
                <a:latin typeface="Times New Roman"/>
              </a:rPr>
              <a:t>onjugated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Polym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41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fessor Bengt Rånby designated electrically conducting polymers as the “fourth generation of polymeric materia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1886-159D-48E7-AF27-2986E3725D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1120" y="256680"/>
            <a:ext cx="462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ed x Conjug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turated polymer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all of the four valence electrons of carbon are used up in covalent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njugated polymer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chemical bonding leads to one unpaired electron (the π-electron) per carbo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π-bo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lectron delocalization along the backbone of the poly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“highway” for charge mo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esul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of </a:t>
            </a:r>
            <a:r>
              <a:rPr b="0" lang="pt-PT" sz="2000" spc="-1" strike="noStrike" u="sng">
                <a:solidFill>
                  <a:srgbClr val="000000"/>
                </a:solidFill>
                <a:uFillTx/>
                <a:latin typeface="Arial"/>
              </a:rPr>
              <a:t>π-bo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lymers can exhibit semiconducting or even metallic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he electronic structure determined by the chain symmet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number and kind of atoms within the repeat un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F0CB-51C0-4BE0-846E-2758778D9F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7280" y="256680"/>
            <a:ext cx="29527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905120"/>
          <a:ext cx="4572000" cy="39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57200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876920" y="1865160"/>
            <a:ext cx="411480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tructure is dimer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e to Peierls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π-band divided into π- and π</a:t>
            </a:r>
            <a:r>
              <a:rPr b="0" lang="pt-PT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b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each hold two electr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spin up and spin 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π-band is filled and the π</a:t>
            </a:r>
            <a:r>
              <a:rPr b="0" lang="pt-PT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band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nergy difference is the π–π</a:t>
            </a:r>
            <a:r>
              <a:rPr b="0" lang="pt-PT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energy gap, </a:t>
            </a:r>
            <a:r>
              <a:rPr b="0" i="1" lang="pt-P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PT" sz="2400" spc="-1" strike="noStrike" baseline="-30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7ADC-C55F-4821-8070-4F5AC6E487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0" y="304920"/>
            <a:ext cx="4248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it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ree radical defec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in pattern of bond alter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stable: charge of unpaired electron spreads over several monomer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d in non-bonding state in middle of energy 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a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d electron or hole polarizes loc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xation of loc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on: defect consisting of deformed chain section and charge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polaron: pair of pola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cal equivalents: radical ion and radical di-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on movement: by thermally activated 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418A-3B2D-45DF-A1BD-4D281124E2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7280" y="304920"/>
            <a:ext cx="295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81760" cy="455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4CE0-C242-42A3-B55A-44376A6B29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7280" y="304920"/>
            <a:ext cx="295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ermi level moved by a redox reaction or an acid–bas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Reducing: analogous to donation of e- to conduction b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-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dox re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formation of polymer salt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) immersing polymer in solution of the reg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) electrochemical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xidizing: analogous to removal of e- from valence b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-t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tep: formation of cation ra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step: formation of 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38280" y="5105520"/>
            <a:ext cx="420552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F17BA-7CFB-4C6C-8894-FE759A9AA6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67280" y="304920"/>
            <a:ext cx="2952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2600" y="990720"/>
            <a:ext cx="2772000" cy="5317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52640" y="2971800"/>
            <a:ext cx="403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lectrical conductivity of 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-(CH)</a:t>
            </a:r>
            <a:r>
              <a:rPr b="0" i="1" lang="pt-PT" sz="2000" spc="-1" strike="noStrike" baseline="-30000">
                <a:solidFill>
                  <a:srgbClr val="000000"/>
                </a:solidFill>
                <a:latin typeface="Arial"/>
              </a:rPr>
              <a:t>x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as a function of (AsF</a:t>
            </a:r>
            <a:r>
              <a:rPr b="0" lang="pt-PT" sz="2000" spc="-1" strike="noStrike" baseline="-30000">
                <a:solidFill>
                  <a:srgbClr val="000000"/>
                </a:solidFill>
                <a:latin typeface="Arial"/>
              </a:rPr>
              <a:t>5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) dopant concentration. The 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polymer structures are also sh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0E70C-59DD-4295-9532-D8A845CC88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1:33:22Z</dcterms:created>
  <dc:creator>sebi</dc:creator>
  <dc:description/>
  <dc:language>en-US</dc:language>
  <cp:lastModifiedBy>hf</cp:lastModifiedBy>
  <dcterms:modified xsi:type="dcterms:W3CDTF">2008-01-30T10:14:24Z</dcterms:modified>
  <cp:revision>7</cp:revision>
  <dc:subject/>
  <dc:title>Polymer Semiconductors</dc:title>
</cp:coreProperties>
</file>